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04C-1E47-4761-B16C-CA93940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59F-9E8F-4EFC-A170-24EF32F8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755-1B12-457E-9F70-D5F5CAF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827-8B42-4303-AAE0-1C6FB8B0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045-533C-4758-B817-E5CD1AF3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7A5A-2084-46E4-85D6-39D6F27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A22-D73F-4D8C-A651-601998F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903B-991E-4837-A998-1ACB87A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5862-28E8-4D1A-AAA5-5917154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E569-375B-460B-9110-9967AC1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AEE-885B-42E7-9758-BB22AED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8FA-0C05-4DDA-AAE0-E5A0756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316-4DCE-4CB9-A498-92ECED2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D19-7E93-4167-937D-4EE44FB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6532-9660-4B0A-B7C6-F3867A5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47F-9CB9-4653-8AAC-14A4124C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0B9E-44A5-4454-83B4-091CD3E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908-2531-48D9-B20E-BA9A126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B41-FDF5-48D0-8A9B-28A870E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097-C3B1-4FED-A02E-CA0DE78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F52-DF3A-4553-AA18-3A554CDB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691-FED1-457A-BC9B-1E9CFE2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DB1-E643-4540-9F14-D6939DA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3AC-516C-4D8D-9FDE-3BBC23B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762-03FD-4650-A277-7B782FDA39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6059-5FA8-4D13-B969-683DE88E1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gurative Languag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efinitions and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scape chart (and modified 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lyr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e less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gurative Langu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ing something by comparing it to some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es beyond literal meaning for new ideas or insights on 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 are many ways to do th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see it and hear it everyday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word_anaylsis_small"/>
          <p:cNvPicPr/>
          <p:nvPr/>
        </p:nvPicPr>
        <p:blipFill>
          <a:blip r:embed="rId1"/>
          <a:stretch/>
        </p:blipFill>
        <p:spPr>
          <a:xfrm>
            <a:off x="4495680" y="2362320"/>
            <a:ext cx="4381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m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comparison between two unlike things, us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ke an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She is as busy as a be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keep on crying but it doesn't seem to help at all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th every single tear drop it's like another rain drop f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o matter what I do I can't stop the rain.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e-Yo Can’t Stop the R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ied comparison between two unlike things – sometimes using a form of a BEI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using like, 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ing verbs: am, is, are, was, were, be, being, b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uth is hiding in your ey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it’s hanging on your tongue, Jus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iling in my bl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ut you think I can’t see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amore – De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ok at him, look at me, that boy is bad, and honestly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 is a wolf in disgui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ut I can’t stop looking in those evil eyes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dy Gaga - Mon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it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consonan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ccurring at the beginning of words or withi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iteration always has alike amounts of s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keep your Love Locked down, your love locked down, you loose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ve Locked Down - Kanye W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W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ep quite cau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e’re dead if they knew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ve Story – Taylor Swi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sonific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s qualities of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an animal, an object, or an id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hors use to communicate feeling or attitu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hadow of the Day, will embrace the worl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grey, and the sun will set for you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dow of the Day – Linkin Pa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ook at the world, and I notice it’s turning, while my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uitar gently wee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My Guitar Gently Weeps - Beat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omatopoe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 to mimic s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to sense of hearing and bring description to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'm so 300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so 2000 and l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got tha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om, boom, bo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t future boom, boom, bo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me get it now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m Boom Pow – Black Eyed P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“Tonight, Imma fight till we see the sun light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ck to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n the clock, but the party don’t stop, n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ck Tock - Kes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yperb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ggerated statement used to heighte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hasize a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extra or exaggerated ener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I would walk 500 miles, and I would walk 500 more, just to be the man who walked 1000 mile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’m Gonna Be – The Proclaim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uck Norris does not do push-ups.  He pushes the world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charm is so contagious, vaccines were created for it. – The Most Interesting Man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'm Already There by Lonest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ardrops on My Guitar by Taylor Swif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ve Song by Sara Bareill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ynamite by Taio Cruz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the (2 AM) by Anna Nalick (this one uses similies as well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a G6 by Far East Mov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ip My Hair by Willow (Willow Smi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emedy, Jason Mraz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t!, Coldplay(Acoustic pian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t?, Coldplay(Organ-like sound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llipop, Mik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Im Gone, Simple Plan(just a bit figurativ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op Suey, System Of A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dplay by Jason Mraz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 Whole Songs o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hanna – take a b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nye West – Love Lock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aramore – De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ylor Swift – Love 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dy Gaga – Mon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hadow of the day – Linkin Park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ip Hop is Dead – N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op and Stare – One Republ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atskat – The Roo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wl City Firefl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9:32:27Z</dcterms:created>
  <dc:creator>Amanda</dc:creator>
  <dc:description/>
  <dc:language>en-US</dc:language>
  <cp:lastModifiedBy>Jeanette</cp:lastModifiedBy>
  <dcterms:modified xsi:type="dcterms:W3CDTF">2010-12-12T21:19:01Z</dcterms:modified>
  <cp:revision>11</cp:revision>
  <dc:subject/>
  <dc:title>Figurative Language </dc:title>
</cp:coreProperties>
</file>